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215"/>
        <c:axId val="837368"/>
      </c:barChart>
      <c:catAx>
        <c:axId val="7719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68"/>
        <c:crosses val="autoZero"/>
        <c:auto val="1"/>
        <c:lblAlgn val="ctr"/>
        <c:lblOffset val="100"/>
        <c:noMultiLvlLbl val="0"/>
      </c:catAx>
      <c:valAx>
        <c:axId val="837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000-36B5-4323-A453-B7DA47C0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6DC-A95A-4F82-9A28-FC7CC27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EA-25F1-405D-BB0E-88E5DE4A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F46-90DE-4D19-A237-52FF5D3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84C-0062-4FBF-BF58-EDB06C8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742-00FC-41BB-ADE3-7446828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CBC-CCA9-4A17-894F-F109C8EF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AFE-9419-46D9-8613-08D6508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A05-ABBA-4E2E-87AF-ABE1FB5F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42E-7D42-44C6-909F-28A1553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FE2-02B7-40DD-A571-5A6AF28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95B-FFD5-4FE7-925B-216F607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A2336-6AA3-470B-BFE7-3BB5468D9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