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57598"/>
        <c:axId val="3957565"/>
      </c:barChart>
      <c:catAx>
        <c:axId val="20957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7565"/>
        <c:crosses val="autoZero"/>
        <c:auto val="1"/>
        <c:lblAlgn val="ctr"/>
        <c:lblOffset val="100"/>
        <c:noMultiLvlLbl val="0"/>
      </c:catAx>
      <c:valAx>
        <c:axId val="39575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57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C20-4AE6-4576-8C5D-F0EEC21A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95F-108C-42D6-881C-BF520FA4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FF7-6D90-4BA1-96B0-3099D875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D17-1BD3-4E24-AA4C-F79715BC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44A-8D0C-4E08-B68E-1EACEB42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74E-44A5-4885-BEE9-3B7475E8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463-26AF-4FA8-8EC0-43498FAB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F43-0B1E-42A4-BAFF-469A4F6E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608-F5AA-41B3-B35A-BDE5A190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1C4-9397-4E14-8843-5CC4CC9E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F0B-E500-45F9-92D2-9142C2C3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425-E664-4AA7-BC73-14A9C767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AAA9C-D0C3-404A-AE13-2DA2DB6557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