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222"/>
        <c:axId val="35845585"/>
      </c:barChart>
      <c:catAx>
        <c:axId val="2610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45585"/>
        <c:crosses val="autoZero"/>
        <c:auto val="1"/>
        <c:lblAlgn val="ctr"/>
        <c:lblOffset val="100"/>
        <c:noMultiLvlLbl val="0"/>
      </c:catAx>
      <c:valAx>
        <c:axId val="35845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CEC-907B-4401-B125-815E5D24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0CC-E254-45CD-BBC6-BCDB50F1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B12-6E9D-46B7-BB70-B76645CE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79E-CB04-41DD-994A-F2A51C42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0F4-1BB1-4C1F-A03E-AEE31894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D90-FAB6-4910-ABC2-2B244D72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269-856A-4B46-9374-1887DE9F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689-6DEC-4B89-838D-55D62714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DFD-ABB8-49DC-B1D9-9E27C72C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AC7-871A-4A5A-9CBA-E9D1039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EE9-74B0-4701-84E0-0B993E47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AF2-1CCC-45CF-9E2C-28B9656A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F77F4-B07C-4134-86AD-D569A7D27D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