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7952"/>
        <c:axId val="4882521"/>
      </c:barChart>
      <c:catAx>
        <c:axId val="6707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2521"/>
        <c:crosses val="autoZero"/>
        <c:auto val="1"/>
        <c:lblAlgn val="ctr"/>
        <c:lblOffset val="100"/>
        <c:noMultiLvlLbl val="0"/>
      </c:catAx>
      <c:valAx>
        <c:axId val="4882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7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DC4-D069-4EA1-AAB5-82CDC73D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DF9-DF96-475E-A917-27FB17B9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C6B-77B7-4423-A49B-6E2457F5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D5A-5EA9-4574-8C87-CB14F82F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4C1-ECFC-4136-B3F0-4A5F0883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7A0-7555-4F24-9AC4-ED487E87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B0F0-2052-423E-9404-92033B49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1B1-6135-4B81-85E2-01325F00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814-69A8-451C-8AEF-CA7C5718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580-F07F-4938-93DE-68563768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05A-9C3E-4987-A34D-57589198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59F9-4B90-4252-BE69-D12E0481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4995C-7348-4A5C-BFCD-07DE81F3AC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