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013964"/>
        <c:axId val="40216884"/>
      </c:barChart>
      <c:catAx>
        <c:axId val="420139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16884"/>
        <c:crosses val="autoZero"/>
        <c:auto val="1"/>
        <c:lblAlgn val="ctr"/>
        <c:lblOffset val="100"/>
        <c:noMultiLvlLbl val="0"/>
      </c:catAx>
      <c:valAx>
        <c:axId val="402168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139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8B79-742E-4B05-8A8D-5A64BA49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5D2-C5C6-4068-844E-5EB3423C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F6C3-5CF4-4085-B226-35E161DC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66D8-A075-47A3-A341-4360B9F4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5767-A53B-4E92-B610-BDF15D3F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BC8D-8A7B-4317-AD5E-1AF49BF9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B058-BBE9-41C5-A0D6-EC296681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05B0-1725-411E-8EAF-761A4EF9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C3BD-63E0-4EA3-81E2-74878836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DF3C-55D4-4C09-A162-7A1D6874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823-B920-4F9D-A976-B1B4C700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C6B4-E1BB-4755-86A7-56AA15B2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20671-B41D-4872-ABBC-9E54A59DE7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