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56704"/>
        <c:axId val="22713000"/>
      </c:barChart>
      <c:catAx>
        <c:axId val="54056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13000"/>
        <c:crosses val="autoZero"/>
        <c:auto val="1"/>
        <c:lblAlgn val="ctr"/>
        <c:lblOffset val="100"/>
        <c:noMultiLvlLbl val="0"/>
      </c:catAx>
      <c:valAx>
        <c:axId val="22713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56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8C24-8AF8-4893-BFA8-6D45FE8A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8E31-DB56-42D8-A9BD-30B6CB40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3DA-B0C7-4204-81C1-6388A7DB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EF1-8460-488F-BA8C-627F4ED7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DF29-30DA-43F2-9868-55C35C06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00F-04EA-4071-9777-7AE5D200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9DAD-047A-4CE4-BDF0-89F045D9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8389-808C-42B8-A9C8-0F06854F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DFC3-86AB-4721-8735-62320009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8343-2B19-4A3F-B2AE-3395FE18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2082-E905-4988-A317-376302A1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2F22-BCEF-4B6A-B173-A2C7969D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6F1D4-18CC-4A57-ABFC-DF3FC94064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