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43011"/>
        <c:axId val="4101199"/>
      </c:barChart>
      <c:catAx>
        <c:axId val="87343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1199"/>
        <c:crosses val="autoZero"/>
        <c:auto val="1"/>
        <c:lblAlgn val="ctr"/>
        <c:lblOffset val="100"/>
        <c:noMultiLvlLbl val="0"/>
      </c:catAx>
      <c:valAx>
        <c:axId val="4101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43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0C5-F6EF-403D-82AE-D4A2D6F5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6B2-BD50-4731-A17E-3322EC4B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9A0-4AC5-493A-BCEE-AA7978C2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C2E-46AD-4AEC-9A0B-BE262305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031-83AE-401A-8D8E-DD826973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BD7-D22E-4F13-A16F-C1B0B665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205-378B-45B4-B468-234239F8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A64-30B6-4AEB-810F-48CDFCA6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231-A32A-4017-AA09-3EBBF329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789-3B15-40CB-8F1C-265A5769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57B-C3EC-4C35-9805-04B00ED3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554-2C45-455C-A90E-6ADF22AB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27D89-CEFE-4CB2-9CEF-FC542C91FC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