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82273"/>
        <c:axId val="14587932"/>
      </c:barChart>
      <c:catAx>
        <c:axId val="16282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87932"/>
        <c:crosses val="autoZero"/>
        <c:auto val="1"/>
        <c:lblAlgn val="ctr"/>
        <c:lblOffset val="100"/>
        <c:noMultiLvlLbl val="0"/>
      </c:catAx>
      <c:valAx>
        <c:axId val="14587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82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843-72E1-440E-9AB1-E07F1757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1FB-CEB3-423B-B6BB-B0B5EDEA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2EF-1D69-4AF7-90D0-1A866ABC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5AD-1E2F-4109-9FDB-52B8246C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C61-CC68-4212-B9F1-7ABCD182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4C3-3D3F-4CAE-BBEC-9F565CF7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226-37E5-4D31-AE2A-BD25CA1B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8E6-73D1-44AF-BA42-7D8E0001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777-A017-41D0-AD0B-3BC35D35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B6C-C92B-4D85-87DC-D2255B29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FC4-A9BA-41C6-A3EB-EADF1B9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371-B043-4ABD-9294-E0454AB7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A9BBB-B359-432A-8BE9-CE0E168702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