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42003"/>
        <c:axId val="6848188"/>
      </c:barChart>
      <c:catAx>
        <c:axId val="46342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8188"/>
        <c:crosses val="autoZero"/>
        <c:auto val="1"/>
        <c:lblAlgn val="ctr"/>
        <c:lblOffset val="100"/>
        <c:noMultiLvlLbl val="0"/>
      </c:catAx>
      <c:valAx>
        <c:axId val="6848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42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C39-25E9-4C90-A55C-B4104934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845-FCF5-4A11-8793-873CD3A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73F-9ED9-47F7-A4BF-C98DC4E1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DF-EEDC-497A-B7F5-D2D374A5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FC9-CBBB-402D-9B87-50D9F5B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D48-A94F-4D17-AE1F-CA2E061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56B-777E-4694-B707-5DC44D7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81C-EC77-4F05-A02E-4201B78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2B-8160-4751-B8E5-CBAFEC06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45E-588B-4FEF-8D16-2863F8B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09E-FC74-4B0E-8011-2E6FF13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0AF-C2C5-46EB-A4DF-135280E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01496-C209-4C0E-BCEC-7A3B8F861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