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22752"/>
        <c:axId val="44869989"/>
      </c:barChart>
      <c:catAx>
        <c:axId val="93722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69989"/>
        <c:crosses val="autoZero"/>
        <c:auto val="1"/>
        <c:lblAlgn val="ctr"/>
        <c:lblOffset val="100"/>
        <c:noMultiLvlLbl val="0"/>
      </c:catAx>
      <c:valAx>
        <c:axId val="44869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22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333-6DDB-48E1-A3A7-E414ED33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FA73-74EF-4ED6-8358-451669B2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63D-933A-472A-8A22-02DF9FC7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56B-6CDC-41D5-BCB4-B500CA75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A3C-5953-4287-9B2D-2D606204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B6E-FC2C-4D63-8FA0-327BE61C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4E32-8449-404D-8506-AC6D2D7B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9EF-338F-46AE-AFBC-F5412C12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5ED-CDC3-4C21-9CE1-46AEB633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DD6-E588-453E-9F89-20FE1CB4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9DF-C948-4CA1-A7CE-EEC9359C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4C2-C0D9-4424-93D0-0794EF62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A50ED-C168-426A-8EB5-16A6EDBAAA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